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84A-6DC3-4A00-8EE5-94A95B3A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3D3-844C-4564-977C-8F56122C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CF8-7F8B-43E3-89DB-BAB03DA1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033-C7D1-4F17-B7AF-F218024F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E5B-2B64-4814-9B59-C177D202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201-1F66-4035-9834-BC946C86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F142-485B-4747-B5D6-14B688B7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498-D8C0-4F1B-8316-F64133B5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F5F-F63A-4B83-8DCA-DAEF232F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E2F5-84A2-4020-9618-03C665B8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B52-A27A-4378-84B4-A46AFFDB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811-58DF-4923-8D31-9EF39D76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B6C2-591E-4534-85B9-175751A43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74818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Mu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V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chwe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Bru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Toch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Soh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O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Grossmu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Grossv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Enk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Ki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74818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Kus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Cou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T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Onk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Fra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Ma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K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Mäd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Ju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4:23:56Z</dcterms:created>
  <dc:creator>udsd</dc:creator>
  <dc:description/>
  <dc:language>en-US</dc:language>
  <cp:lastModifiedBy>udsd</cp:lastModifiedBy>
  <dcterms:modified xsi:type="dcterms:W3CDTF">2009-02-24T19:15:11Z</dcterms:modified>
  <cp:revision>2</cp:revision>
  <dc:subject/>
  <dc:title>Slide 1</dc:title>
</cp:coreProperties>
</file>